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063-C09B-40A9-9157-4ADA49A0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02F-9D5F-4FDF-AE20-33DD403F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CC4-BDD4-422D-99FA-B17DE6DA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C14-FDDE-45AC-9D3A-4CA7BFE1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5C4C-C08E-4628-A31A-D0778560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7C5F-A3D5-41AA-A864-A9483652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E1F3-DADC-406B-9694-8A2424FF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2D6-F793-49E7-8E2E-656563D9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6CA7-01CC-44DA-9EBB-014A46B5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70A-1781-43CC-8710-EADE58FC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E02D-74C1-42A5-A260-DCCB0489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397-6D44-49A0-A3C4-09F4DBC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7B4C-ED0C-446E-8B54-F1E2B41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7B1F-F701-42C4-98F7-CE66537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924D-1686-422B-8F1A-ABB17691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BB44-EF02-4CD8-912F-F3C126F7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481-21EA-4483-825C-F45F09EF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00485-3BBA-4F77-9FC2-3A28C62A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D2312-9255-4F51-977B-F12D2E87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2A75-46A3-42B2-9F2F-6A47422F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12A02-B108-445F-B4AB-D56BDE28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B4601-7A07-4120-B679-5141DC2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F4F-1748-4A7C-A23C-52C5C1EE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405EF-C07C-4A0C-A5D2-167E6272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9D6BF-9BF3-4E81-9F2E-21E25A5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A7464-99D2-45CE-A2EF-DA5D2A2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3DB86-786D-49E2-A689-7D71EFA8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2E091-D768-492B-B301-1A92C5EC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B2B6B-EAC0-4375-AA0F-FBE4BB24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E6844-4E79-4888-B3AA-2C99FEF6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A2A7-F9F3-4749-B6D2-D8F1CF9F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CFC7-3755-4B3D-B789-54468275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ED59-2C33-44F1-84D2-55CBD1D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6CB-A8FC-40C7-AE88-C99F67DA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6CD8-12E3-4EB3-B445-3FEF8310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91AD-0BDE-4F38-8C9F-F524918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60D7-A7E0-465E-8063-D136395A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9F97-5802-449E-BB9C-277EB4B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3FEE-87CA-43C5-9FDB-E030751F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2E3F-1876-4D35-B65A-D30D8D3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D10C4-4811-4FD5-9399-22301F3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EE32-BB9B-4051-BB62-73DD2E72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337E-3FAF-47A1-9891-B5172D40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561-5658-4389-B55F-F19BD8DB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D9E-D4D2-4295-8B13-88495D5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9E0-C363-45D8-940D-ABED89E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B95-8519-4C82-B588-C8F0995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3EA-6293-41C7-94A5-1116455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4E2-D484-4621-903B-5A4A9D89B926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4C2-56B0-455C-8E7B-F0F891A19706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BF13-0751-439D-A05D-728A0730E9BC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7A9F-BBC5-4A3D-AAB4-056D88B71308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Doda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2484360" y="4581360"/>
            <a:ext cx="42879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dwucyfrowych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jako pierwsze dodajemy jedności czyl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+ 4 = 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podpisujemy pod jednościam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+ 2 = 5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32 + 24 = 5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2400" y="3995640"/>
            <a:ext cx="1081080" cy="582480"/>
            <a:chOff x="6872400" y="3995640"/>
            <a:chExt cx="1081080" cy="582480"/>
          </a:xfrm>
        </p:grpSpPr>
        <p:sp>
          <p:nvSpPr>
            <p:cNvPr id="227" name="pole tekstowe 12"/>
            <p:cNvSpPr/>
            <p:nvPr/>
          </p:nvSpPr>
          <p:spPr>
            <a:xfrm>
              <a:off x="7158600" y="3995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158600" y="420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2400" y="4500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66000" y="414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49040" y="4427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ole tekstowe 23"/>
          <p:cNvSpPr/>
          <p:nvPr/>
        </p:nvSpPr>
        <p:spPr>
          <a:xfrm>
            <a:off x="715860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Elipsa 1"/>
          <p:cNvSpPr/>
          <p:nvPr/>
        </p:nvSpPr>
        <p:spPr>
          <a:xfrm>
            <a:off x="7188120" y="4022640"/>
            <a:ext cx="2523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Elipsa 18"/>
          <p:cNvSpPr/>
          <p:nvPr/>
        </p:nvSpPr>
        <p:spPr>
          <a:xfrm>
            <a:off x="7389720" y="4029120"/>
            <a:ext cx="25236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35 + 231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następnie podpisujemy prawidłowo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 + 231 = 66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3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4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4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3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6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Elipsa 1"/>
          <p:cNvSpPr/>
          <p:nvPr/>
        </p:nvSpPr>
        <p:spPr>
          <a:xfrm>
            <a:off x="7596360" y="4357800"/>
            <a:ext cx="2664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Elipsa 19"/>
          <p:cNvSpPr/>
          <p:nvPr/>
        </p:nvSpPr>
        <p:spPr>
          <a:xfrm>
            <a:off x="7373880" y="4357800"/>
            <a:ext cx="2682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Elipsa 20"/>
          <p:cNvSpPr/>
          <p:nvPr/>
        </p:nvSpPr>
        <p:spPr>
          <a:xfrm>
            <a:off x="7184880" y="4365720"/>
            <a:ext cx="26676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51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5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: 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5 + 36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+ 6 = 1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1 dziesiątka i 1 jedność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w rzędzie jedności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+ 4 + 3 = 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sumie w rzędzie dziesiątek wpisujemy 8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45 + 36 = 8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6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64" name="Grupa 25"/>
          <p:cNvGrpSpPr/>
          <p:nvPr/>
        </p:nvGrpSpPr>
        <p:grpSpPr>
          <a:xfrm>
            <a:off x="6875640" y="4211640"/>
            <a:ext cx="1081080" cy="582480"/>
            <a:chOff x="6875640" y="4211640"/>
            <a:chExt cx="1081080" cy="582480"/>
          </a:xfrm>
        </p:grpSpPr>
        <p:sp>
          <p:nvSpPr>
            <p:cNvPr id="265" name="pole tekstowe 12"/>
            <p:cNvSpPr/>
            <p:nvPr/>
          </p:nvSpPr>
          <p:spPr>
            <a:xfrm>
              <a:off x="7161840" y="4211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pole tekstowe 13"/>
            <p:cNvSpPr/>
            <p:nvPr/>
          </p:nvSpPr>
          <p:spPr>
            <a:xfrm>
              <a:off x="7161840" y="4425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Łącznik prostoliniowy 14"/>
            <p:cNvSpPr/>
            <p:nvPr/>
          </p:nvSpPr>
          <p:spPr>
            <a:xfrm>
              <a:off x="6875640" y="4716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8" name="pole tekstowe 15"/>
            <p:cNvSpPr/>
            <p:nvPr/>
          </p:nvSpPr>
          <p:spPr>
            <a:xfrm>
              <a:off x="6969240" y="436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69" name="pole tekstowe 16"/>
          <p:cNvSpPr/>
          <p:nvPr/>
        </p:nvSpPr>
        <p:spPr>
          <a:xfrm>
            <a:off x="7352280" y="4643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ole tekstowe 26"/>
          <p:cNvSpPr/>
          <p:nvPr/>
        </p:nvSpPr>
        <p:spPr>
          <a:xfrm>
            <a:off x="7155360" y="398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7"/>
          <p:cNvSpPr/>
          <p:nvPr/>
        </p:nvSpPr>
        <p:spPr>
          <a:xfrm>
            <a:off x="7142760" y="465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Elipsa 1"/>
          <p:cNvSpPr/>
          <p:nvPr/>
        </p:nvSpPr>
        <p:spPr>
          <a:xfrm>
            <a:off x="7380360" y="4211640"/>
            <a:ext cx="24588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Elipsa 19"/>
          <p:cNvSpPr/>
          <p:nvPr/>
        </p:nvSpPr>
        <p:spPr>
          <a:xfrm>
            <a:off x="7188120" y="3986280"/>
            <a:ext cx="246240" cy="74916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124 + 34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4 + 9 = 13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3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to 1 dziesiątka i 3 jednośc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3 jedności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+ 2 + 4 = 7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7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24 + 349 = 473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4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4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Elipsa 1"/>
          <p:cNvSpPr/>
          <p:nvPr/>
        </p:nvSpPr>
        <p:spPr>
          <a:xfrm>
            <a:off x="7561440" y="4379760"/>
            <a:ext cx="2505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Elipsa 20"/>
          <p:cNvSpPr/>
          <p:nvPr/>
        </p:nvSpPr>
        <p:spPr>
          <a:xfrm>
            <a:off x="7391520" y="4149720"/>
            <a:ext cx="250560" cy="7351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Elipsa 21"/>
          <p:cNvSpPr/>
          <p:nvPr/>
        </p:nvSpPr>
        <p:spPr>
          <a:xfrm>
            <a:off x="7188120" y="4379760"/>
            <a:ext cx="25092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75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9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396 + 2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6 + 9 = 15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5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1 dziesiątka i 5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5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1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9 + 2 = 12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setka i 2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2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etkę dopisujemy do rzędu se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setki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3 = 4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396 + 29 = 42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9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ole tekstowe 7"/>
          <p:cNvSpPr/>
          <p:nvPr/>
        </p:nvSpPr>
        <p:spPr>
          <a:xfrm>
            <a:off x="734760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0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0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0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9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6" name="pole tekstowe 13"/>
            <p:cNvSpPr/>
            <p:nvPr/>
          </p:nvSpPr>
          <p:spPr>
            <a:xfrm>
              <a:off x="7175880" y="4572000"/>
              <a:ext cx="6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   </a:t>
              </a: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ole tekstowe 19"/>
          <p:cNvSpPr/>
          <p:nvPr/>
        </p:nvSpPr>
        <p:spPr>
          <a:xfrm>
            <a:off x="714276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Elipsa 1"/>
          <p:cNvSpPr/>
          <p:nvPr/>
        </p:nvSpPr>
        <p:spPr>
          <a:xfrm>
            <a:off x="7564320" y="4367160"/>
            <a:ext cx="247680" cy="5018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Elipsa 21"/>
          <p:cNvSpPr/>
          <p:nvPr/>
        </p:nvSpPr>
        <p:spPr>
          <a:xfrm>
            <a:off x="7377120" y="4218120"/>
            <a:ext cx="24768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Elipsa 22"/>
          <p:cNvSpPr/>
          <p:nvPr/>
        </p:nvSpPr>
        <p:spPr>
          <a:xfrm>
            <a:off x="7164360" y="4218120"/>
            <a:ext cx="24912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25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5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7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25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3:16Z</dcterms:modified>
  <cp:revision>46</cp:revision>
  <dc:subject/>
  <dc:title>Prezentacja programu PowerPoint</dc:title>
</cp:coreProperties>
</file>